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move the slide</a:t>
            </a:r>
            <a:endParaRPr b="0" lang="en-US" sz="3600" spc="-1" strike="noStrike">
              <a:solidFill>
                <a:srgbClr val="ffff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C331-48FA-4CFC-AF69-F4B7A543A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83F5-2283-4CD1-B88A-51378CD691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A is the number one cause of disability in adult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ain tissue in the affected area is starved for bloo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e blood have that is essential for the brain’s functio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2D01-2333-43AA-8E81-D662ECEBDE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xample of violent back and forth motion that could cause a concuss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DE7F-7DDA-4176-89D7-64F7E1322F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consciousness may last from a few seconds to several minut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esia may last 12 to 24 hou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4DAB-FA7A-4117-8A8D-367A44F0BF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fully recover from a concussion with no lasting damag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common reasons why concussions occur?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practical ways people could prevent a concussion in normal circumstanc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B65F-E2C4-4EBD-83EE-F688D59A9B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a contusion occur? (Caused by a blow to the head or hitting a hard surface, such as in an automobile acciden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isting of the two brain hemispheres when colliding with cranial bones may cause damage deep within the brai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B765-D674-452F-AE45-354B06248D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permanent damage to the brain could occur from a contusion caused by subdural and epidural hematomas immediate medical attention is needed with this condi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94EB5-E5DF-483A-8AEB-928CE18629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ust vital signs be monitored?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neurological aspects would be particularly important to assess during the neurological exam?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5583-C269-41F9-93C0-1438469A1C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onditions occur when the spinal cord is injur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of the injury on the spinal cord usually determines the extent of the paralysi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C2C6-021D-49B2-A700-A9A02CDC1C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damage to the spinal cord lead to some degree of permanent disability? (nerve pathways control many bodily functions and action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al cord damage may be only temporar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F0CB-686D-499E-922F-DC7F0441E7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etermines the result of an injury? (The site of the injury, the type of trauma to the spinal cord, and severity of trauma usually determine whether the person will be paraplegic or quadriplegi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56B2-C3C3-4D04-8FA3-38DA360693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riety of assessments and scans are needed to determine the extent of the injuri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arts of the body could a typical paraplegic have some measure of control over?</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arts of the body could a typical quadriplegic have some measure of control ov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F8CE-63C5-4F66-A5C2-F6B573EEA7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areas of the brain control different function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vary depending on which area of the brain is affected by the strok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worst result of a stroke? (coma or death)</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2BB7-B0C1-4629-8307-3DEFC01CF8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hould treatment begin for a patient rendered a paraplegic or quadriplegic? (The earlier treatment begins, the better the prognosis. Partial or total severing of the spinal cord results in permanent, irreversible damage and paralysis below the point of injur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05D6-F1A5-4379-AC07-3FA953168A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rubbing on the disk results in inflammation and gradual destruction of the disk.</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lammation eventually involves the spinal nerve roots and causes scarri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CB5C-59B0-4A1C-8DFA-F29B508876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degenerative disk disease differ from injury to the spinal cord through trauma?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ight there be a loss of motor function in the leg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3A68-D588-412B-A9B4-D1A6C0ECC3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ight more than one imaging technique be used to diagnosis a disk disorder?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503D-74F4-4458-9FAE-4F151D39B0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ranscutaneous electrical nerve stimulation (TENS) uni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5740-12A8-4914-A368-DB9554C900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herniated disk called? (also known as a ruptured or slipped disk)</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intervertebral disk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A561-7B1A-49D2-AB3D-7B6FA942C2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in both diagrams the bulging disk (B) and herniated disk (C) are pressing against the spinal cord, which results in pai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herniated disk differ from the bulging disk? (It has pushed out of the annulu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C5F1-A508-4CB4-8E48-A55A513979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ciatica?</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herniated disks occur in the lower back.</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cause the pain to radiate to other parts of the body?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AEBC-5C20-4A25-B10C-6E0E91BB3D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herniated disks diagnosed? (Physical examination along with CT and MRI scans may be used in diagnosi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2210-D163-4DE9-B6FF-516AC8BD9A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herniated disks resolve with res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rgical intervention is necessary, the outcome is usually favorabl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nstitutes good body mechanics when lifting a heavy objec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9F10-E8C9-464C-AB40-40B6301D6E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strokes occur? can also result from systemic diseases such as diabetes and syphili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lifestyle and hereditary issues can also contribute to being at risk for a stroke? </a:t>
            </a:r>
            <a:endParaRPr b="0" lang="en-US" sz="1200" spc="-1" strike="noStrike">
              <a:solidFill>
                <a:srgbClr val="000000"/>
              </a:solidFill>
              <a:latin typeface="Times New Roman"/>
            </a:endParaRPr>
          </a:p>
          <a:p>
            <a:pPr marL="119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EE54-0876-4E96-BC4E-AF1BD343C4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al stenosis, a narrowing of the spinal canal, is often termed sciatica because of the compression on the spinal cord and spinal cord roo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CC6E-1801-48B7-B9C3-F52FDF65D7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location of the vertebrae and the associated pain in the sciatic nerv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in then radiates through the buttocks and leg.</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on name for the coccyx? (tailb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ECBE-C4AA-4972-AE38-EDB6B94FFB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ntributes to spinal stenosis? (Trauma to the sciatic nerve may result from a fall, poor body mechanics, or other injury.)</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ing process and arthritis can cause a narrowing of the spinal cana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DBC0-8413-44C4-88EA-BC93BA4554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examination and a series of images may be taken (radiographic, MRI, CT) to diagnose the conditio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ore” muscles, and why are they important?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urpose do narcotics serve in the treatment of pai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00AD-8782-4B1C-A437-7048C908CB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aches may be chronic or acute and are located in the frontal, temporal (side), or occipital (back) regions of the hea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re are many environmental causes of headaches, there are only two physiologic caus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environmental factors that might also cause headache?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E654-1391-47B4-A484-8FA4C12DAD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tissues themselves never ache because they do not contain sensory nerv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aches are also called cephalalgia.</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what circumstances do you get headache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E1A7-0BB8-45A0-A89A-3DBFC43DD4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examination and imaging scans are often needed to diagnose the cause of the headach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headaches subside in a reasonable amount of tim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reduction and relaxation techniques may also help.</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ways to reduce stress and possibly the frequency of headach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F829-4707-4829-B0A2-566FA90178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e of the attack varies by person but may be preceded by a period of abnormal fatigue or irritatio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ceptibility to migraines tends to run in families, leading to a strong suspicion of inherited or genetic links to this disorder.</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foods (aged cheese, chocolate, and red wine) can be linked to an attack.</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651B-68E4-49B6-BC96-CD1A68AA5F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aches may begin in adolescence or early adulthood and become less frequent with ag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ines affect women twice as often as me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ight women be more susceptible to migraines than me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665B-63E2-4902-82F0-491EEE976A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EG, CT scan, or MRI may be used to diagnose and rule out any organic condition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nosis is good when drug therapy and rest are appli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sychosocial factors might “trigger” an attack?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B70A-39D1-473E-BEE9-68B5495AB3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medical treatment is to restore lost functions and treat underlying disorder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health care professionals might be on the team of treating a patient with a strok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rmanent disability may remain after the initial treatment and recovery.</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0694-3FAF-417F-95AA-9DA09C40A3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lepsy takes many forms – there are more than 30 types of seizures know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for a person to have more than one typ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eizur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6DE0-6999-42BD-8CC1-694B15D2A2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 seizures do not involve the entire brain but arise from a localized area in the brai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loss of consciousness with partial seizur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0A8F-5C70-4E56-A131-336230D42C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ed seizures can cause a diffuse electrical abnormality in the brai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ic-clonic seizures may begin with a loud cry, followed by falling to the ground, and loss of consciousnes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you do if you encountered someone who was having a seizure?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izures usually subside in 1 to 2 minut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epilepticus occurs when one seizure follows another with no recovery of consciousness between attacks. This is a medical emergenc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590E-E152-4A61-875B-887BFF8FAA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seizures imply epilepsy.</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of epilepsy is based on the location of abnormal activity and its duratio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EG, MRI, and CT scan may be used in diagnosi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FC7B-BBD9-4235-A3D8-5846147834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 therapy is often sufficient to control seizure activity.</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epilepticus is a life-threatening event and needs immediate medical attention.</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ACA8-0695-4A93-9320-7D9C43C5D9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n’t anything be put into the mouth of a person who is having a seizur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be done if a seizure lasts more than five minutes, or the person is having a difficult time recovering? (Call for medical help.)</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EDB2-7DF2-4CD2-BD94-AE003A0ACB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amine is a neurotransmitter manufactured in the midbrai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4974-9D35-43A0-AD10-CBBEAA4231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onset is 60 years of ag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licts more men than wome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is made after careful neurologic examinatio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dopamine levels may be noted in the urin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071F-A0D0-42FF-BBCA-C978F3A577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dvantages might physical therapy provide?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important for family members to participate in physical therapy? Why or why no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2BDE-1D12-4140-B6AA-B51F620A8A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rebral CT scan can show brain atrophy.</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analysis can detect a defective gen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progressive chorea and dementia are risk factor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definitive diagnoses do not exi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DD10-03E9-4703-8954-A28FB2379B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isk factors does the patient have no control over?</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you encourage someone at risk for a stroke to begin making lifestyle change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E3F4-E1E5-4AD2-A1D3-D9B858B993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the arms and face are first affected by lack of muscle control.</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ymptoms may be subtl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set of symptoms typically begins in early middle ag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D5E7-51D4-41C9-A1EF-73FF3C229B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a family be told about the progressive nature of Huntington Chorea at the time of diagnosis?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ere a patient with HC, how much would you want to know?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BE03-21D3-45BE-B845-5EAAD45FF9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use of ALS is not known, but inherited traits are suspect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as Lou Gehrig?</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4758-E3AE-42AD-8465-3EB88966CD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ing of the mind is not affect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ects slightly more men than wome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set usually occurs after the age of 50 to 60 year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5EE4-E735-4539-91B2-5C424F49DF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usually occurs within six to 10 year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pulmonary function ceases?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DA21-C8DD-4091-BA05-7EDB03DF03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frightening, it is usually a benign even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esia may last from one to 12 hours and cover the entire memory for that duration of time, resulting in total loss of recent memory.</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E61D-918F-44CF-B972-3647A3DCBA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loss may include the preceding three to five year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 may be able to perform routine tasks with out a problem.</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ic signs are typically normal.</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0CDA-5574-442F-8298-75304EDCF2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 will probably never regain memory of the events that occurred during the episode or the hours or days that immediately preceded the episod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ight stress “trigger” such a loss of memory?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AD05-2162-4586-9A81-A9F84B5ED3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54A2-DE91-4256-B5B9-CDEB8E656E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set is sudden and progressiv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4D7D-553F-4BA8-A0B7-67B7479F76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TIAs referred to as “little strokes” or “mini strokes”? (Because they resemble a stroke caused by an embolis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ECAD-A3C6-4A76-98D0-A72A4934F1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alcohol usage is considered “safe” when it comes to general health guidelin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uritis is common with diabet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diabete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060E-EF25-4033-83F8-654DA48160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rophied muscles show diminished deep tendon reflexes and tendernes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eg and/or foot are affected, foot drop may be experienced as a symptom. What is foot drop?</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8321-9CF9-4F7D-A911-5ABD61A4B1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underlying causes may provide substantial relief of symptom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proper nutrition help this condition?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1151-1B1C-4FE7-985C-D921A2DE5F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cruciating pain that typically results from this condition can be debilitating.</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2275-BCD3-42FF-A6A5-CD189D1976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shows the trigeminal nerve and its branches.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verage of the nerve and how large an area of the face may be affecte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5ABE-CDD7-465B-9FAF-12FD0ADF64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in is always unilateral and does not cross the midline of the fac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daily activities might “trigger” pain from this condition?</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2DFE-398E-4E5B-A9EE-544ED4BAA1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sodes may last from months to years and then subsid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ction of a sinus or tooth must first be ruled out during the diagnosis.</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1E64-B784-4567-B2AE-1A47917ED3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venth cranial nerve is responsible for this condition.</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3145-BBDF-4989-A309-9DE5D88159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sorder is often first noticed in the morning, having developed overnigh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 is usually unilateral.</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ransient or permanen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s between the ages of 20 and 60 years of age in men and women alik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9B0F-C9A6-4A0E-AA01-0C5F8A28C9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recovery is possible if disease is treated early.</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very is often spontaneous, especially in younger individua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B64E-C5A9-4C7A-9E6D-44317F5B81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IAs cause unconsciousness? (No, they last a few seconds to a few hours and then subsid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As are signals of an impending stroke.</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6F44-FF19-4B6D-9291-D933A269A4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disorder would be most difficult to live with?</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D302-BBE9-4DAD-8B38-BDE8ACB377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ection can originate directly from the brain, spinal cord, or sinuses.</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B597-66CD-494C-A2CC-61BE11CC66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wsiness can progress to coma.</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izure may be presen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symptoms may not appear severe enough to warrant treatmen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se symptoms are not typically present with influenza? </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764A-16A1-46CA-80DB-DFEAB96FF3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e presence of elevated levels of white blood cells, protein, and glucose, indicate the body is attempting to do?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F953-8110-4604-A93C-EA230DAA3B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l forms of meningitis respond well to antibiotics; viral strains usually run their course and patient recover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ommon preventative practices to avoid infections, including meningitis?</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E8CF-7ABF-4509-A86F-FC319F4064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West Nile encephalitis contracted? </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26D3-324F-4337-85E7-A28E510266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may have a sudden or gradual onset.</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359F-B01B-4593-9A65-29204F74A4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a diagnosis determin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cerebral fluid obtain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nd cerebrospinal fluid will reveal the presence of the viru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EG will also show abnormalities.</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BC0B-FF6F-496B-95FB-FDC40A2E26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iral forms run their cours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ual damage to the brain may resul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easures could be taken to avoid contracting encephalitis through mosquito contact? </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0AA0-2A84-4444-9B51-03FA6A3E12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dition destroys or removes the myelin sheath that surrounds the nerv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54FA-E043-4CA3-8F9C-C86ED5D8DD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a TIA? (The most immediate cause is a piece of plaque that breaks away from an artery or heart valve and travels to the brai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known as an embolism or moving clo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laque and how does it develop? </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A4AE-4661-4206-AD5F-38BDC69C7E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 pain, weakness, and paralysis move quickly up the body in 24 to 72 hours.</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5F96-D1DA-463F-B624-C9002C71A8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is confirmed by finding elevated protein in the cerebrospinal fluid, which peaks in four to six weeks after onse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nosis varies but recovery is usually complete.</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DDDD-B1C1-411E-A6E0-997C593EA7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secondary sources of the infection could include sinusitis and dental abscess.</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2DB4-BF65-4B29-A5A9-678B010EE1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diagnosis mad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infection, especially of the sinuses, or an injury to the central nervous system along with stated symptoms may indicate the presence of an absces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EG and CT scans are used to confirm diagnosis.</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B8A4-CB3F-42A1-B1D4-29946B88BD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nosis varies depending on the location, size, and cause, of the absces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tracranial pressure cannot be controlled, death may result.</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bar puncture is not an option because intracranial pressure may cause brain stem to herniate, which may lead to death.</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BFA8-8BAA-47A5-B068-5A2F9609A2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long is the incubation period? (seven to 21 day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the well-known researcher who developed a polio vaccine years ago? (Jonas Salk)</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an effective vaccine, polio is very rare in the Western world.</a:t>
            </a: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17E7-0301-4C98-9421-E70EFBA7A3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omyelitis that involves the muscles supplied by spinal nerves is termed </a:t>
            </a:r>
            <a:r>
              <a:rPr b="0" i="1" lang="en-US" sz="1200" spc="-1" strike="noStrike">
                <a:solidFill>
                  <a:srgbClr val="000000"/>
                </a:solidFill>
                <a:latin typeface="Times New Roman"/>
              </a:rPr>
              <a:t>spina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omyelitis that involves the muscles supplied by cranial nerves is termed </a:t>
            </a:r>
            <a:r>
              <a:rPr b="0" i="1" lang="en-US" sz="1200" spc="-1" strike="noStrike">
                <a:solidFill>
                  <a:srgbClr val="000000"/>
                </a:solidFill>
                <a:latin typeface="Times New Roman"/>
              </a:rPr>
              <a:t>bulba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ovirus is transmitted from person to person from airborne saliva particles.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polio vaccine still administered to children if the disease is under control?</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B636-9C7C-473D-A899-A7CE7AE91C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polio vaccines currently licensed in the U.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nosis is fair and depends on which muscles are involve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nosis for postpolio syndrome is good.</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tell parents who are reluctant to have their child exposed to an almost nonexistent disease? </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845B-80F0-4356-93C8-77C369F1BB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y tumors may have originated from the lung, liver, kidney, or skin.</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mors are named according to the tissues from which they originat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hildren under 15, brain tumors are the most common solid malignancy.</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tumors are more common in industrialized countries and among whites.</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C58E-E2B9-48F7-96B3-D44F154DF2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 of brain tissue causes progressive neurologic deficits, expansion of the brain, and increased intracranial pressur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of early tumors are somewhat vague.</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recommend to help someone cope with the news of having a brain tumo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97A0-16AE-4781-85DB-440821909C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likely prognosis for a patient who has had a TIA? (Prognosis varies according to the extent and duration of the episodes.) Most attacks have minimal effect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reduction and lifestyle changes should be implemented as a means of reducing risk.</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ys could a person reduce the stress in his or her life?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FE1D-FE64-4C60-9CF5-8013980CCD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 of brain tumors is complicated because benign and malignant tumors have similar symptom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surgical procedure on a tumor located deeper in the brain more dangerous than one closer to the surfac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193C-956A-4351-BB77-E248EFAE5D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radiotherapy attempt to do to tumor cells? </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chemotherapy work to destroy cancer cells? </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5BD2-D8C1-4886-9F5C-EFF6A0AB0A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with secondary metastasis will undergo these treatments to improve the quality of life and reduce the likelihood of death by neurologic caus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examples of “quality of life issues”?</a:t>
            </a:r>
            <a:endParaRPr b="0" lang="en-US" sz="1200" spc="-1" strike="noStrike">
              <a:solidFill>
                <a:srgbClr val="000000"/>
              </a:solidFill>
              <a:latin typeface="Times New Roman"/>
            </a:endParaRPr>
          </a:p>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complications of surgery, radiation, and chemotherapy, may cause problems later, especially for children.</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6FDD-C3D2-451A-8792-893DD3B1A6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119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community resources would help an individual with a brain tumor and his or her fami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8"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2"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6"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5"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1"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Text Box 5"/>
          <p:cNvSpPr/>
          <p:nvPr/>
        </p:nvSpPr>
        <p:spPr>
          <a:xfrm>
            <a:off x="0" y="6384960"/>
            <a:ext cx="914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sevier items and derived items © 2009 by Saunders, an imprint of Elsevier Inc.</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40"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scular Disorders:</a:t>
            </a:r>
            <a:br>
              <a:rPr sz="3200"/>
            </a:br>
            <a:r>
              <a:rPr b="0" lang="en-US" sz="3200" spc="-1" strike="noStrike">
                <a:solidFill>
                  <a:srgbClr val="ffff00"/>
                </a:solidFill>
                <a:latin typeface="Arial"/>
              </a:rPr>
              <a:t>Cerebrovascular Accident (Stroke)</a:t>
            </a:r>
            <a:endParaRPr b="0" lang="en-US" sz="3200" spc="-1" strike="noStrike">
              <a:solidFill>
                <a:srgbClr val="ffff00"/>
              </a:solidFill>
              <a:latin typeface="Arial"/>
            </a:endParaRPr>
          </a:p>
        </p:txBody>
      </p:sp>
      <p:sp>
        <p:nvSpPr>
          <p:cNvPr id="8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erebrovascular accident (CVA) occurs when the brain is damaged by a sudden disruption in the flow of blood to a part of the brain or by bleeding inside the hea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rebral Concussion</a:t>
            </a:r>
            <a:endParaRPr b="0" lang="en-US" sz="3600" spc="-1" strike="noStrike">
              <a:solidFill>
                <a:srgbClr val="ffff00"/>
              </a:solidFill>
              <a:latin typeface="Arial"/>
            </a:endParaRPr>
          </a:p>
        </p:txBody>
      </p:sp>
      <p:sp>
        <p:nvSpPr>
          <p:cNvPr id="10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cussion is bruising of the cerebral tissue that is caused by violent back and forth movement of the head.</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nt force trauma may also cause this condition.</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cussion causes a disruption of normal electrical activity in the brain, but the brain itself usually is not inju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rebral Concus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diate loss of consciousness:</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followed by a period of amnesia</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llow respiration</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pulse</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cle tone flacid</a:t>
            </a:r>
            <a:endParaRPr b="0" lang="en-US" sz="20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on gaining consciousness, patient might experience:</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dache</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usea/vomiting </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urred vision </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itivity to light (photophobia)</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rebral Concus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urological examin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 scan</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ation for behavioral chan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rebral Contusion</a:t>
            </a:r>
            <a:endParaRPr b="0" lang="en-US" sz="3600" spc="-1" strike="noStrike">
              <a:solidFill>
                <a:srgbClr val="ffff00"/>
              </a:solidFill>
              <a:latin typeface="Arial"/>
            </a:endParaRPr>
          </a:p>
        </p:txBody>
      </p:sp>
      <p:sp>
        <p:nvSpPr>
          <p:cNvPr id="10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usion involves bruising the tissues along or just beneath the surface of the brai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usion is more serious than a concus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rebral Contu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1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 according to site and extent of injury and persist more than 24 hou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ge from temporary consciousness to com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onsciou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e headache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ght paralysis or weakness affecting one side of the body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owsiness, lethargy, combative moo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erebral Contu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1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 </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plete neurological examin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 scan</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ization so vital signs can be monito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1614240"/>
            <a:ext cx="7772400" cy="43052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plegia is the loss of nerve function below the waist and results in paralysis of the lower trunk and leg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driplegia is the loss of nerve function below the cervical region, resulting in paralysis of arms, hands, trunk, and legs.</a:t>
            </a:r>
            <a:endParaRPr b="0" lang="en-US" sz="2800" spc="-1" strike="noStrike">
              <a:solidFill>
                <a:srgbClr val="ffffff"/>
              </a:solidFill>
              <a:latin typeface="Arial"/>
            </a:endParaRPr>
          </a:p>
        </p:txBody>
      </p:sp>
      <p:sp>
        <p:nvSpPr>
          <p:cNvPr id="11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pinal Cord Injuries: </a:t>
            </a:r>
            <a:br>
              <a:rPr sz="3200"/>
            </a:br>
            <a:r>
              <a:rPr b="0" lang="en-US" sz="3200" spc="-1" strike="noStrike">
                <a:solidFill>
                  <a:srgbClr val="ffff00"/>
                </a:solidFill>
                <a:latin typeface="Arial"/>
              </a:rPr>
              <a:t>Paraplegia and Quadriplegia</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aplegia and Quadripleg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1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plegia: </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motor and sensory control in lower extremities and trunk</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bladder, bowel, and sexual function</a:t>
            </a:r>
            <a:endParaRPr b="0" lang="en-US" sz="20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driplegia: </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motor and sensory control in upper and lower body</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blood pressure (hypotension)</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body temperature (hyperthermia)</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 heart rate (bradycardia) </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iratory probl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aplegia and Quadripleg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1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ssion of vertebra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uma to the thoracic and lumbar regions of the spine (T1 and below) usually results in paraplegia.</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flexion of neck</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uma to the cervical vertebrae (C5 or above) can result in quadriplegia.</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extension of spin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uma occurring above C3 is usually fa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aplegia and Quadripleg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assessment of neurologic function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al radiographic film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RI sca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 sca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erebrovascular Accident (Stroke)</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8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symptoms include sudde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headach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al or total loss of the ability to articulate ideas or comprehend spoken or written language (aphas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 (hemiparesis), numbness, or paralysis (hemiplegia), confusion, or impaired conscious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r blurring of vision, double vision (diplop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zziness, loss of balance or coordinatio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aplegia and Quadripleg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 goal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ation of normal alignment and stability of spin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ompression of the spinal cord, nerves, and vertebra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ly rehabilitation</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er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ertebral disks are located between the vertebra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generation is usually the result of constant wearing on the disk through misalignment.</a:t>
            </a:r>
            <a:endParaRPr b="0" lang="en-US" sz="2800" spc="-1" strike="noStrike">
              <a:solidFill>
                <a:srgbClr val="ffffff"/>
              </a:solidFill>
              <a:latin typeface="Arial"/>
            </a:endParaRPr>
          </a:p>
        </p:txBody>
      </p:sp>
      <p:sp>
        <p:nvSpPr>
          <p:cNvPr id="12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rvertebral Disk Disorders:</a:t>
            </a:r>
            <a:br>
              <a:rPr sz="3200"/>
            </a:br>
            <a:r>
              <a:rPr b="0" lang="en-US" sz="3200" spc="-1" strike="noStrike">
                <a:solidFill>
                  <a:srgbClr val="ffff00"/>
                </a:solidFill>
                <a:latin typeface="Arial"/>
              </a:rPr>
              <a:t>Degenerative Disk Diseas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generative Disk Diseas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 that radiates down the nerve path</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rn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include loss of motor function in the leg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ness and associated weakness of the le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generative Disk Diseas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us imaging:</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I sca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elogram with contras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rely CT sc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generative Disk Diseas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ing back and lower extremiti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cing back</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 NSAID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ical intervention might be necessary (spinal fusion, freeing trapped nerv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cases: electrical stimulation of the skin to relieve pain or a continuous flow of morphin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rniated and Bulging Disk</a:t>
            </a:r>
            <a:endParaRPr b="0" lang="en-US" sz="3600" spc="-1" strike="noStrike">
              <a:solidFill>
                <a:srgbClr val="ffff00"/>
              </a:solidFill>
              <a:latin typeface="Arial"/>
            </a:endParaRPr>
          </a:p>
        </p:txBody>
      </p:sp>
      <p:sp>
        <p:nvSpPr>
          <p:cNvPr id="13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rniated disk is a rupture of the nucleus pulposus, an elastic pulpy mass lying in the center of each intervertebral cartilage, which is housed in a circular wall structure (annulu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nucleus pulposus extends into the inner annulus only, it is considered a bulging disk.</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nucleus pulposus extends through the inner and outer annulus, it is considered a herniated disk.</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04920"/>
            <a:ext cx="3962520" cy="312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rniated and Bulging Disk </a:t>
            </a:r>
            <a:r>
              <a:rPr b="0" lang="en-US" sz="1800" spc="-1" strike="noStrike">
                <a:solidFill>
                  <a:srgbClr val="ffff00"/>
                </a:solidFill>
                <a:latin typeface="Arial"/>
              </a:rPr>
              <a:t>(cont’d.)</a:t>
            </a:r>
            <a:endParaRPr b="0" lang="en-US" sz="1800" spc="-1" strike="noStrike">
              <a:solidFill>
                <a:srgbClr val="ffff00"/>
              </a:solidFill>
              <a:latin typeface="Arial"/>
            </a:endParaRPr>
          </a:p>
        </p:txBody>
      </p:sp>
      <p:pic>
        <p:nvPicPr>
          <p:cNvPr id="135" name="Picture 7" descr="W0256-13-15"/>
          <p:cNvPicPr/>
          <p:nvPr/>
        </p:nvPicPr>
        <p:blipFill>
          <a:blip r:embed="rId1"/>
          <a:stretch/>
        </p:blipFill>
        <p:spPr>
          <a:xfrm>
            <a:off x="4876920" y="304920"/>
            <a:ext cx="2436840" cy="586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rniated and Bulging Disk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experiences severe back pai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 may radiate from back to buttocks, thigh, and le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disability can occur if disk pinches or pushes against spinal nerv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rniated and Bulging Disk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3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dden impac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per body mechanics when lift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post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ing (can cause disk to degener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rniated and Bulging Disk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conservativ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 for 24 to 48 hou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and cold pack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cle relaxa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brace</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advanced)</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ical excision of the herniated disk or related procedures to relieve the pressure against the spinal co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erebrovascular Accident (Stroke)</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8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VA is usually a result of one of three types of vascular disorde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clot (cerebral thrombos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ebral hemorrhage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ebral embolis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ery blockage (atherosclerosis) or hypertension (high blood pressure)</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nal stenosis is brought about by trauma, degeneration, or rupture of the nucleus pulposus within intervertebral disks L4 through S1 (lower back).</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generation or rupture exerts pressure directly on the sciatic nerve, sending impulses down into the leg.</a:t>
            </a:r>
            <a:endParaRPr b="0" lang="en-US" sz="2800" spc="-1" strike="noStrike">
              <a:solidFill>
                <a:srgbClr val="ffffff"/>
              </a:solidFill>
              <a:latin typeface="Arial"/>
            </a:endParaRPr>
          </a:p>
        </p:txBody>
      </p:sp>
      <p:sp>
        <p:nvSpPr>
          <p:cNvPr id="143"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ciatic Nerve Injury – Spinal Stenosi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7" descr="W0256-13-16"/>
          <p:cNvPicPr/>
          <p:nvPr/>
        </p:nvPicPr>
        <p:blipFill>
          <a:blip r:embed="rId1"/>
          <a:stretch/>
        </p:blipFill>
        <p:spPr>
          <a:xfrm>
            <a:off x="4622760" y="762120"/>
            <a:ext cx="4368960" cy="5181480"/>
          </a:xfrm>
          <a:prstGeom prst="rect">
            <a:avLst/>
          </a:prstGeom>
          <a:ln w="0">
            <a:noFill/>
          </a:ln>
        </p:spPr>
      </p:pic>
      <p:sp>
        <p:nvSpPr>
          <p:cNvPr id="145" name="PlaceHolder 1"/>
          <p:cNvSpPr>
            <a:spLocks noGrp="1"/>
          </p:cNvSpPr>
          <p:nvPr>
            <p:ph type="title"/>
          </p:nvPr>
        </p:nvSpPr>
        <p:spPr>
          <a:xfrm>
            <a:off x="914040" y="609480"/>
            <a:ext cx="3809880" cy="281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ciatic Nerve Injury – Spinal Stenosis</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 radiating pain from the sciatic nerve down the leg and to the foo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 in lower back, buttocks, thighs, or calv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bility to sit or stand</a:t>
            </a:r>
            <a:endParaRPr b="0" lang="en-US" sz="2400" spc="-1" strike="noStrike">
              <a:solidFill>
                <a:srgbClr val="ffffff"/>
              </a:solidFill>
              <a:latin typeface="Arial"/>
            </a:endParaRPr>
          </a:p>
        </p:txBody>
      </p:sp>
      <p:sp>
        <p:nvSpPr>
          <p:cNvPr id="147"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ciatic Nerve Injury – Spinal Stenosis</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 for 24 to 48 hou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brac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ngthening core muscles (after inflammation subsides)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 (analgesics, muscle relaxants, anti-inflammatories, and, in some cases, narcot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ical intervention (partial or complete removal might be necessary in some cases)</a:t>
            </a:r>
            <a:endParaRPr b="0" lang="en-US" sz="2400" spc="-1" strike="noStrike">
              <a:solidFill>
                <a:srgbClr val="ffffff"/>
              </a:solidFill>
              <a:latin typeface="Arial"/>
            </a:endParaRPr>
          </a:p>
        </p:txBody>
      </p:sp>
      <p:sp>
        <p:nvSpPr>
          <p:cNvPr id="149"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ciatic Nerve Injury – Spinal Stenosis</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ain located in the head that is not confined to any one specific nerve area</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physiologic causes:</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sion headache results from strain on facial, neck, and scalp muscle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scular headache is brought on when excess fluid in the blood vessels of the head causes the vessels to change in size.</a:t>
            </a:r>
            <a:endParaRPr b="0" lang="en-US" sz="2400" spc="-1" strike="noStrike">
              <a:solidFill>
                <a:srgbClr val="ffffff"/>
              </a:solidFill>
              <a:latin typeface="Arial"/>
            </a:endParaRPr>
          </a:p>
        </p:txBody>
      </p:sp>
      <p:sp>
        <p:nvSpPr>
          <p:cNvPr id="151"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unctional Disorders – Headach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unctional Disorders – Headache</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 may vary from dull to severe, be constant or intermittent, and have a throbbing, pressure, or penetrating sens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ay signal an underlying disorder or disease (hypertension, stroke, brain tumor, or encephalitis) but in most cases does n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unctional Disorders – Headach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underlying cause is found, the typical treatment include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gesic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cle relaxant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or tranquilizers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cle massag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m ba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graine</a:t>
            </a:r>
            <a:endParaRPr b="0" lang="en-US" sz="3600" spc="-1" strike="noStrike">
              <a:solidFill>
                <a:srgbClr val="ffff00"/>
              </a:solidFill>
              <a:latin typeface="Arial"/>
            </a:endParaRPr>
          </a:p>
        </p:txBody>
      </p:sp>
      <p:sp>
        <p:nvSpPr>
          <p:cNvPr id="15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ic severe headaches that may completely incapacitate the individual and are almost always accompanied by other sympto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grain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5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ateral throbbing pai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se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mit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auras (zigzagging lines, flashing ligh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ensitivity to l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grain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6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 in a quiet, dark roo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 therapy (vasoconstrictors) to constrict blood vessel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emetics (to control vomit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xation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feedba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erebrovascular Accident (Stroke)</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diate medical intervention within three hours of stroke may limit brain damage. It include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ediately chewing an aspiri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coagulants (to prevent clotting of blood)</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gery to improve circulation and remove clots</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pilepsy</a:t>
            </a:r>
            <a:endParaRPr b="0" lang="en-US" sz="3600" spc="-1" strike="noStrike">
              <a:solidFill>
                <a:srgbClr val="ffff00"/>
              </a:solidFill>
              <a:latin typeface="Arial"/>
            </a:endParaRPr>
          </a:p>
        </p:txBody>
      </p:sp>
      <p:sp>
        <p:nvSpPr>
          <p:cNvPr id="16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hronic brain disorder characterized by sudden episodes of abnormal intense electrical activity in the brain, which results in seizur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leptic seizures are classified as either:</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al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iz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pilep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6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al seizure can involve motor movement, such a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hythmic twitch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lsive lip smack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cking at cloth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y aura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nesia of the atta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pilep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6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4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a:t>
            </a:r>
            <a:r>
              <a:rPr b="0" lang="en-US" sz="1600" spc="-1" strike="noStrike">
                <a:solidFill>
                  <a:srgbClr val="ffffff"/>
                </a:solidFill>
                <a:latin typeface="Arial"/>
              </a:rPr>
              <a:t>(cont’d.)</a:t>
            </a:r>
            <a:endParaRPr b="0" lang="en-US" sz="16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ized seizures includ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sence attacks (also called petit mal): characterized by frequent but transient lapses of consciousness and only rare spasms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nic-clonic attacks (also called grand mal): severe form of epilepsy characterized by seizures involving spasms and loss of consciousnes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pilep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6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ologic conditions associated with seizure include:</a:t>
            </a:r>
            <a:endParaRPr b="0" lang="en-US" sz="24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r tissue on the cerebral cortex from infection or trauma</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mor of the cerebral cortex</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ebral edema </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ke</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th trauma (cerebral palsy)</a:t>
            </a:r>
            <a:endParaRPr b="0" lang="en-US" sz="2000" spc="-1" strike="noStrike">
              <a:solidFill>
                <a:srgbClr val="ffffff"/>
              </a:solidFill>
              <a:latin typeface="Arial"/>
            </a:endParaRPr>
          </a:p>
          <a:p>
            <a:pPr lvl="2" marL="1143000" indent="-228600">
              <a:lnSpc>
                <a:spcPct val="90000"/>
              </a:lnSpc>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ug toxicity (alcoholism)</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pilep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nvulsive medicatio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ical intervention (rare) to remove a lesion in the b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pilep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aid for seizur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hion head.</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sen tight neckwear.</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 person to the sid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identification.</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anything in mouth.</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ld person dow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kinson Disease</a:t>
            </a:r>
            <a:endParaRPr b="0" lang="en-US" sz="3600" spc="-1" strike="noStrike">
              <a:solidFill>
                <a:srgbClr val="ffff00"/>
              </a:solidFill>
              <a:latin typeface="Arial"/>
            </a:endParaRPr>
          </a:p>
        </p:txBody>
      </p:sp>
      <p:sp>
        <p:nvSpPr>
          <p:cNvPr id="17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lowly progressive neurologic disorder that is linked to decreased dopamine production in the brain and is characterized by tremor, weakness of resting muscles, and a shuffling ga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kinson Diseas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7"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oped post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uffling gai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 bowed, body flexed forward, prone to fall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ill-rolling” (tremor of the thumb and forefing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ionless facial featur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ffled speech</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iculty swallow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kinson Diseas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7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ure known; managing symptoms only:</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therapy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ug therapy </a:t>
            </a:r>
            <a:endParaRPr b="0" lang="en-US" sz="2000" spc="-1" strike="noStrike">
              <a:solidFill>
                <a:srgbClr val="ffffff"/>
              </a:solidFill>
              <a:latin typeface="Arial"/>
            </a:endParaRPr>
          </a:p>
          <a:p>
            <a:pPr lvl="3" marL="1600200" indent="-228600">
              <a:spcBef>
                <a:spcPts val="451"/>
              </a:spcBef>
              <a:buClr>
                <a:srgbClr val="ffff00"/>
              </a:buClr>
              <a:buSzPct val="7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odopa and carbidopa (drugs the body converts to dopamine)</a:t>
            </a:r>
            <a:endParaRPr b="0" lang="en-US" sz="1800" spc="-1" strike="noStrike">
              <a:solidFill>
                <a:srgbClr val="ffffff"/>
              </a:solidFill>
              <a:latin typeface="Arial"/>
            </a:endParaRPr>
          </a:p>
          <a:p>
            <a:pPr lvl="3" marL="1600200" indent="-228600">
              <a:spcBef>
                <a:spcPts val="451"/>
              </a:spcBef>
              <a:buClr>
                <a:srgbClr val="ffff00"/>
              </a:buClr>
              <a:buSzPct val="7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tidepressants</a:t>
            </a:r>
            <a:endParaRPr b="0" lang="en-US" sz="1800" spc="-1" strike="noStrike">
              <a:solidFill>
                <a:srgbClr val="ffffff"/>
              </a:solidFill>
              <a:latin typeface="Arial"/>
            </a:endParaRPr>
          </a:p>
          <a:p>
            <a:pPr lvl="3" marL="1600200" indent="-228600">
              <a:spcBef>
                <a:spcPts val="451"/>
              </a:spcBef>
              <a:buClr>
                <a:srgbClr val="ffff00"/>
              </a:buClr>
              <a:buSzPct val="7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ticholinergics (for tremor and rigid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untington Chorea</a:t>
            </a:r>
            <a:endParaRPr b="0" lang="en-US" sz="3600" spc="-1" strike="noStrike">
              <a:solidFill>
                <a:srgbClr val="ffff00"/>
              </a:solidFill>
              <a:latin typeface="Arial"/>
            </a:endParaRPr>
          </a:p>
        </p:txBody>
      </p:sp>
      <p:sp>
        <p:nvSpPr>
          <p:cNvPr id="18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ereditary degenerative disease of the cerebral cortex and basal ganglia (mass of gray matter at the base of the cerebral hemisphere), which causes progressive atrophy of the br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erebrovascular Accident (Stroke)</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risk factors includ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ok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sses in diet and alcohol consump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blood pressur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bet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untington Chore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8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musculoskeletal control (mild fidgeting to lip smack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ch difficulti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ioration of emotional state (personality changes, moody behavior, loss of memory, paranoia, dement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untington Chore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8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no cure is known, treatment focuses on symptom control of erratic movement and agitation through drug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ually, residential care could be necess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myotrophic Lateral Sclerosis</a:t>
            </a:r>
            <a:endParaRPr b="0" lang="en-US" sz="3600" spc="-1" strike="noStrike">
              <a:solidFill>
                <a:srgbClr val="ffff00"/>
              </a:solidFill>
              <a:latin typeface="Arial"/>
            </a:endParaRPr>
          </a:p>
        </p:txBody>
      </p:sp>
      <p:sp>
        <p:nvSpPr>
          <p:cNvPr id="18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known as Lou Gehrig disease, a progressive motor neuron disease that results in motor atroph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myotrophic Lateral Sclerosis</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8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ly, small, involuntary contractions (fasciculations) of the forearms and hand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disease progresses, muscle atrophy sets in and creates difficulties with:</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ech</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allow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w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th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myotrophic Lateral Sclerosis</a:t>
            </a:r>
            <a:r>
              <a:rPr b="0" lang="en-US" sz="3600" spc="-1" strike="noStrike">
                <a:solidFill>
                  <a:srgbClr val="ffff00"/>
                </a:solidFill>
                <a:latin typeface="Arial"/>
              </a:rPr>
              <a:t>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9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no cure is known, treatment is directed at controlling symptoms through drug therapy, maintaining pulmonary function, and providing supportive 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Global Amnesia</a:t>
            </a:r>
            <a:endParaRPr b="0" lang="en-US" sz="3600" spc="-1" strike="noStrike">
              <a:solidFill>
                <a:srgbClr val="ffff00"/>
              </a:solidFill>
              <a:latin typeface="Arial"/>
            </a:endParaRPr>
          </a:p>
        </p:txBody>
      </p:sp>
      <p:sp>
        <p:nvSpPr>
          <p:cNvPr id="19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orary amnesia of short duration (several hours) that is marked by sudden onset, loss of recent memories, and an inability to form new memo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Global Amnes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95" name="PlaceHolder 2"/>
          <p:cNvSpPr>
            <a:spLocks noGrp="1"/>
          </p:cNvSpPr>
          <p:nvPr>
            <p:ph/>
          </p:nvPr>
        </p:nvSpPr>
        <p:spPr>
          <a:xfrm>
            <a:off x="757080" y="1464840"/>
            <a:ext cx="7629840" cy="4049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dden onset of memory loss (includes current and recent events but not self-ident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etitive questioning (Where am I?, etc)</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recollection of events of past few hours or possibly days when amnesia period en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Global Amnesia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9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is uncertai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ected link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ss or emotional eve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mming or immersion in cold wat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ious migraine headache</a:t>
            </a:r>
            <a:endParaRPr b="0" lang="en-US" sz="24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nosis is good; recurrence very unlik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200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13</a:t>
            </a:r>
            <a:br>
              <a:rPr sz="3200"/>
            </a:br>
            <a:r>
              <a:rPr b="0" lang="en-US" sz="2800" spc="-1" strike="noStrike">
                <a:solidFill>
                  <a:srgbClr val="ffff00"/>
                </a:solidFill>
                <a:latin typeface="Arial"/>
              </a:rPr>
              <a:t>Lesson 13.3</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eneration of the peripheral nerves that extend to the extremities, leading to muscle weakness and sensory loss</a:t>
            </a:r>
            <a:endParaRPr b="0" lang="en-US" sz="2800" spc="-1" strike="noStrike">
              <a:solidFill>
                <a:srgbClr val="ffffff"/>
              </a:solidFill>
              <a:latin typeface="Arial"/>
            </a:endParaRPr>
          </a:p>
        </p:txBody>
      </p:sp>
      <p:sp>
        <p:nvSpPr>
          <p:cNvPr id="20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ipheral Nerve Disorders: </a:t>
            </a:r>
            <a:br>
              <a:rPr sz="3200"/>
            </a:br>
            <a:r>
              <a:rPr b="0" lang="en-US" sz="3200" spc="-1" strike="noStrike">
                <a:solidFill>
                  <a:srgbClr val="ffff00"/>
                </a:solidFill>
                <a:latin typeface="Arial"/>
              </a:rPr>
              <a:t>Peripheral Neuriti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Ischemic Attack</a:t>
            </a:r>
            <a:endParaRPr b="0" lang="en-US" sz="3600" spc="-1" strike="noStrike">
              <a:solidFill>
                <a:srgbClr val="ffff00"/>
              </a:solidFill>
              <a:latin typeface="Arial"/>
            </a:endParaRPr>
          </a:p>
        </p:txBody>
      </p:sp>
      <p:sp>
        <p:nvSpPr>
          <p:cNvPr id="9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ient ischemic attacks (TIAs) are temporary episodes of impaired neurologic functioning caused by an inadequate flow of blood to a portion of the br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ipheral Neur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02"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caused by:</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 alcohol use</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us diseases (mumps, pneumonia, diphtheria)</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xicity from various substances (arsenic, lead, etc.) </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bolic or inflammatory diseases (diabetes, rheumatoid arthritis, gout, lupu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tional deficiency disea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ipheral Neur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04"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umsi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sensation in hands and fee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ting of muscle ton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ssy or red appearance to ski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d sweat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foot dro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ipheral Neur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06"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iminate exposure to toxic substanc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 any nutritional deficienci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underlying diseas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p alcohol consumption (if applicabl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 originates from fifth cranial nerve, also called the trigeminal nerv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ases have no identified cause, but occasionally the condition is related to tumor, compression of a nerve, multiple sclerosis, or shingles.</a:t>
            </a:r>
            <a:endParaRPr b="0" lang="en-US" sz="2800" spc="-1" strike="noStrike">
              <a:solidFill>
                <a:srgbClr val="ffffff"/>
              </a:solidFill>
              <a:latin typeface="Arial"/>
            </a:endParaRPr>
          </a:p>
        </p:txBody>
      </p:sp>
      <p:sp>
        <p:nvSpPr>
          <p:cNvPr id="208"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geminal Neuralgia </a:t>
            </a:r>
            <a:br>
              <a:rPr sz="3200"/>
            </a:br>
            <a:r>
              <a:rPr b="0" lang="en-US" sz="3200" spc="-1" strike="noStrike">
                <a:solidFill>
                  <a:srgbClr val="ffff00"/>
                </a:solidFill>
                <a:latin typeface="Arial"/>
              </a:rPr>
              <a:t>(Tic Douloureux)</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11" descr="W0256-13-20"/>
          <p:cNvPicPr/>
          <p:nvPr/>
        </p:nvPicPr>
        <p:blipFill>
          <a:blip r:embed="rId1"/>
          <a:stretch/>
        </p:blipFill>
        <p:spPr>
          <a:xfrm>
            <a:off x="1954080" y="1465200"/>
            <a:ext cx="5232600" cy="4454640"/>
          </a:xfrm>
          <a:prstGeom prst="rect">
            <a:avLst/>
          </a:prstGeom>
          <a:ln w="0">
            <a:noFill/>
          </a:ln>
        </p:spPr>
      </p:pic>
      <p:sp>
        <p:nvSpPr>
          <p:cNvPr id="2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geminal Neuralgia </a:t>
            </a:r>
            <a:br>
              <a:rPr sz="3200"/>
            </a:br>
            <a:r>
              <a:rPr b="0" lang="en-US" sz="3200" spc="-1" strike="noStrike">
                <a:solidFill>
                  <a:srgbClr val="ffff00"/>
                </a:solidFill>
                <a:latin typeface="Arial"/>
              </a:rPr>
              <a:t>(Tic Douloureux) </a:t>
            </a:r>
            <a:r>
              <a:rPr b="0" lang="en-US" sz="1600" spc="-1" strike="noStrike">
                <a:solidFill>
                  <a:srgbClr val="ffff00"/>
                </a:solidFill>
                <a:latin typeface="Arial"/>
              </a:rPr>
              <a:t>(cont’d.)</a:t>
            </a:r>
            <a:endParaRPr b="0" lang="en-US" sz="1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dden onset of excruciating pain that may affect one or more nerve branche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hthalmic branch: causes pain in the eye and forehead</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llary branch: involves the nose, upper lip, and cheek</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dibular branch: affects lower lip and outer portion of the tongue and cheek near the ear</a:t>
            </a:r>
            <a:endParaRPr b="0" lang="en-US" sz="2000" spc="-1" strike="noStrike">
              <a:solidFill>
                <a:srgbClr val="ffffff"/>
              </a:solidFill>
              <a:latin typeface="Arial"/>
            </a:endParaRPr>
          </a:p>
        </p:txBody>
      </p:sp>
      <p:sp>
        <p:nvSpPr>
          <p:cNvPr id="21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geminal Neuralgia </a:t>
            </a:r>
            <a:br>
              <a:rPr sz="3200"/>
            </a:br>
            <a:r>
              <a:rPr b="0" lang="en-US" sz="3200" spc="-1" strike="noStrike">
                <a:solidFill>
                  <a:srgbClr val="ffff00"/>
                </a:solidFill>
                <a:latin typeface="Arial"/>
              </a:rPr>
              <a:t>(Tic Douloureux) </a:t>
            </a:r>
            <a:r>
              <a:rPr b="0" lang="en-US" sz="1600" spc="-1" strike="noStrike">
                <a:solidFill>
                  <a:srgbClr val="ffff00"/>
                </a:solidFill>
                <a:latin typeface="Arial"/>
              </a:rPr>
              <a:t>(cont’d.)</a:t>
            </a:r>
            <a:endParaRPr b="0" lang="en-US" sz="1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 for pai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ical intervention might be necessary to dissect nerve roo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ssation of smoking (if applicable)</a:t>
            </a:r>
            <a:endParaRPr b="0" lang="en-US" sz="2400" spc="-1" strike="noStrike">
              <a:solidFill>
                <a:srgbClr val="ffffff"/>
              </a:solidFill>
              <a:latin typeface="Arial"/>
            </a:endParaRPr>
          </a:p>
        </p:txBody>
      </p:sp>
      <p:sp>
        <p:nvSpPr>
          <p:cNvPr id="214"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geminal Neuralgia </a:t>
            </a:r>
            <a:br>
              <a:rPr sz="3200"/>
            </a:br>
            <a:r>
              <a:rPr b="0" lang="en-US" sz="3200" spc="-1" strike="noStrike">
                <a:solidFill>
                  <a:srgbClr val="ffff00"/>
                </a:solidFill>
                <a:latin typeface="Arial"/>
              </a:rPr>
              <a:t>(Tic Douloureux) </a:t>
            </a:r>
            <a:r>
              <a:rPr b="0" lang="en-US" sz="1600" spc="-1" strike="noStrike">
                <a:solidFill>
                  <a:srgbClr val="ffff00"/>
                </a:solidFill>
                <a:latin typeface="Arial"/>
              </a:rPr>
              <a:t>(cont’d.)</a:t>
            </a:r>
            <a:endParaRPr b="0" lang="en-US" sz="1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ell Palsy</a:t>
            </a:r>
            <a:endParaRPr b="0" lang="en-US" sz="3600" spc="-1" strike="noStrike">
              <a:solidFill>
                <a:srgbClr val="ffff00"/>
              </a:solidFill>
              <a:latin typeface="Arial"/>
            </a:endParaRPr>
          </a:p>
        </p:txBody>
      </p:sp>
      <p:sp>
        <p:nvSpPr>
          <p:cNvPr id="216"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order of the facial nerve that causes a sudden onset of weakness or paralysis of facial muscl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result from blockage of impulses from the facial nerve caused by compression of the nerv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ell Pal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18"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usually unilateral)</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 or drawing sensation behind the ear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bility to open or close the ey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ooping of mouth</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ooling of saliv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orted facial ex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ell Palsy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20"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 moist gentle hea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al exercis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nisone (synthetic steroid) to reduce edema of facial nerv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therapy to stimulate nerves and prevent atrophy of musc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Ischemic Attack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dden weakness or numbness down one side of body (hemipares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zzi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sphag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igeminal Neuralgia and </a:t>
            </a:r>
            <a:br>
              <a:rPr sz="3200"/>
            </a:br>
            <a:r>
              <a:rPr b="0" lang="en-US" sz="3200" spc="-1" strike="noStrike">
                <a:solidFill>
                  <a:srgbClr val="ffff00"/>
                </a:solidFill>
                <a:latin typeface="Arial"/>
              </a:rPr>
              <a:t>Bell Palsy – Compare/Contrast</a:t>
            </a:r>
            <a:endParaRPr b="0" lang="en-US" sz="3200" spc="-1" strike="noStrike">
              <a:solidFill>
                <a:srgbClr val="ffff00"/>
              </a:solidFill>
              <a:latin typeface="Arial"/>
            </a:endParaRPr>
          </a:p>
        </p:txBody>
      </p:sp>
      <p:sp>
        <p:nvSpPr>
          <p:cNvPr id="222" name="PlaceHolder 2"/>
          <p:cNvSpPr>
            <a:spLocks noGrp="1"/>
          </p:cNvSpPr>
          <p:nvPr>
            <p:ph/>
          </p:nvPr>
        </p:nvSpPr>
        <p:spPr>
          <a:xfrm>
            <a:off x="2052360" y="1614600"/>
            <a:ext cx="6405480" cy="1350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ities</a:t>
            </a:r>
            <a:endParaRPr b="0" lang="en-US" sz="1800" spc="-1" strike="noStrike">
              <a:solidFill>
                <a:srgbClr val="ffffff"/>
              </a:solidFill>
              <a:latin typeface="Arial"/>
            </a:endParaRPr>
          </a:p>
          <a:p>
            <a:pPr marL="343080" indent="-343080">
              <a:lnSpc>
                <a:spcPct val="80000"/>
              </a:lnSpc>
              <a:spcBef>
                <a:spcPts val="45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caused by disorder of facial nerve</a:t>
            </a:r>
            <a:endParaRPr b="0" lang="en-US" sz="1800" spc="-1" strike="noStrike">
              <a:solidFill>
                <a:srgbClr val="ffffff"/>
              </a:solidFill>
              <a:latin typeface="Arial"/>
            </a:endParaRPr>
          </a:p>
          <a:p>
            <a:pPr marL="343080" indent="-343080">
              <a:lnSpc>
                <a:spcPct val="80000"/>
              </a:lnSpc>
              <a:spcBef>
                <a:spcPts val="45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dden onset</a:t>
            </a:r>
            <a:endParaRPr b="0" lang="en-US" sz="1800" spc="-1" strike="noStrike">
              <a:solidFill>
                <a:srgbClr val="ffffff"/>
              </a:solidFill>
              <a:latin typeface="Arial"/>
            </a:endParaRPr>
          </a:p>
          <a:p>
            <a:pPr marL="343080" indent="-343080">
              <a:lnSpc>
                <a:spcPct val="80000"/>
              </a:lnSpc>
              <a:spcBef>
                <a:spcPts val="45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lateral</a:t>
            </a:r>
            <a:endParaRPr b="0" lang="en-US" sz="1800" spc="-1" strike="noStrike">
              <a:solidFill>
                <a:srgbClr val="ffffff"/>
              </a:solidFill>
              <a:latin typeface="Arial"/>
            </a:endParaRPr>
          </a:p>
        </p:txBody>
      </p:sp>
      <p:sp>
        <p:nvSpPr>
          <p:cNvPr id="223" name="PlaceHolder 3"/>
          <p:cNvSpPr>
            <a:spLocks noGrp="1"/>
          </p:cNvSpPr>
          <p:nvPr>
            <p:ph/>
          </p:nvPr>
        </p:nvSpPr>
        <p:spPr>
          <a:xfrm>
            <a:off x="5148000" y="3490560"/>
            <a:ext cx="3181320" cy="1949400"/>
          </a:xfrm>
          <a:prstGeom prst="rect">
            <a:avLst/>
          </a:prstGeom>
          <a:noFill/>
          <a:ln w="0">
            <a:noFill/>
          </a:ln>
        </p:spPr>
        <p:txBody>
          <a:bodyPr anchor="t">
            <a:normAutofit/>
          </a:bodyPr>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ll Palsy</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dden paralysis </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or function impaired</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nosis is good if treated early</a:t>
            </a:r>
            <a:endParaRPr b="0" lang="en-US" sz="1800" spc="-1" strike="noStrike">
              <a:solidFill>
                <a:srgbClr val="ffffff"/>
              </a:solidFill>
              <a:latin typeface="Arial"/>
            </a:endParaRPr>
          </a:p>
        </p:txBody>
      </p:sp>
      <p:sp>
        <p:nvSpPr>
          <p:cNvPr id="224" name="Rectangle 9"/>
          <p:cNvSpPr/>
          <p:nvPr/>
        </p:nvSpPr>
        <p:spPr>
          <a:xfrm>
            <a:off x="1905120" y="3276720"/>
            <a:ext cx="3216240" cy="2743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ces</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eminal</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eme pain </a:t>
            </a:r>
            <a:endParaRPr b="0" lang="en-US" sz="20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otor function impairment</a:t>
            </a:r>
            <a:endParaRPr b="0" lang="en-US" sz="20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nosis va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ammation of the meninges, the membranous coverings of the brain, and the spinal cord</a:t>
            </a:r>
            <a:endParaRPr b="0" lang="en-US" sz="2800" spc="-1" strike="noStrike">
              <a:solidFill>
                <a:srgbClr val="ffffff"/>
              </a:solidFill>
              <a:latin typeface="Arial"/>
            </a:endParaRPr>
          </a:p>
        </p:txBody>
      </p:sp>
      <p:sp>
        <p:nvSpPr>
          <p:cNvPr id="226"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fectious Disorders – Meningiti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1523520"/>
            <a:ext cx="8229600" cy="441972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miting</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that increases in intensity with movement or shaking of hea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ck stiffness (nuchal rigid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owsi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itabil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ensitivity to light (photophob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sensitivity of the skin</a:t>
            </a:r>
            <a:endParaRPr b="0" lang="en-US" sz="2400" spc="-1" strike="noStrike">
              <a:solidFill>
                <a:srgbClr val="ffffff"/>
              </a:solidFill>
              <a:latin typeface="Arial"/>
            </a:endParaRPr>
          </a:p>
        </p:txBody>
      </p:sp>
      <p:sp>
        <p:nvSpPr>
          <p:cNvPr id="228"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fectious Disorders – Mening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 lumbar puncture to determine if cerebrospinal fluid (CSF) has increased levels of white blood cells, protein, and glucos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o, resulting growth of microbes in cultured CSF confirms diagnosis</a:t>
            </a:r>
            <a:endParaRPr b="0" lang="en-US" sz="2400" spc="-1" strike="noStrike">
              <a:solidFill>
                <a:srgbClr val="ffffff"/>
              </a:solidFill>
              <a:latin typeface="Arial"/>
            </a:endParaRPr>
          </a:p>
        </p:txBody>
      </p:sp>
      <p:sp>
        <p:nvSpPr>
          <p:cNvPr id="23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fectious Disorders – Mening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gressive antibiotic 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nvulsive drugs to control seizure activ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irin or acetaminophen for headach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rk and quiet environment</a:t>
            </a:r>
            <a:endParaRPr b="0" lang="en-US" sz="2400" spc="-1" strike="noStrike">
              <a:solidFill>
                <a:srgbClr val="ffffff"/>
              </a:solidFill>
              <a:latin typeface="Arial"/>
            </a:endParaRPr>
          </a:p>
        </p:txBody>
      </p:sp>
      <p:sp>
        <p:nvSpPr>
          <p:cNvPr id="23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fectious Disorders – Mening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ncephalitis</a:t>
            </a:r>
            <a:endParaRPr b="0" lang="en-US" sz="3600" spc="-1" strike="noStrike">
              <a:solidFill>
                <a:srgbClr val="ffff00"/>
              </a:solidFill>
              <a:latin typeface="Arial"/>
            </a:endParaRPr>
          </a:p>
        </p:txBody>
      </p:sp>
      <p:sp>
        <p:nvSpPr>
          <p:cNvPr id="234"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ephalitis is an inflammation of the brain that leads to cerebral edema and subsequent cell destruc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ases are the result of a bite from an infected mosquito.</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lso be caused by viruses or the toxins from chickenpox, measles, or mum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ncephal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36"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vated body temperat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ck and back stiff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cular weak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less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disturbances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harg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tal confusion that may progress to disorientation and even to c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ncephal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38"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tes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ebrospinal fluid sampl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E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ncephaliti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40"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viral agents effective against herpes simplex encephalit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wis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d analgesics for pai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convulsive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biotics for any present infe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uillain-Barré Syndrome</a:t>
            </a:r>
            <a:endParaRPr b="0" lang="en-US" sz="3600" spc="-1" strike="noStrike">
              <a:solidFill>
                <a:srgbClr val="ffff00"/>
              </a:solidFill>
              <a:latin typeface="Arial"/>
            </a:endParaRPr>
          </a:p>
        </p:txBody>
      </p:sp>
      <p:sp>
        <p:nvSpPr>
          <p:cNvPr id="242"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cute, rapidly progressive disease of the spinal nerv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ndition is thought to have an autoimmune basis and has been known to follow a respiratory infection or gastroenterit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Ischemic Attack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 and physical examin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anial MRI sca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 sca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E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uillain-Barré Syndrom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44"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ngling and numbness of feet and hands at onset of diseas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ed by:</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ing muscle pain and tendernes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essive muscle weakness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lysi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iculty swallow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uillain-Barré Syndrom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46"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ization required for observ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plasma washed to remove antibodies (called plasmapheresis) and speed recove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rain Abscess</a:t>
            </a:r>
            <a:endParaRPr b="0" lang="en-US" sz="3600" spc="-1" strike="noStrike">
              <a:solidFill>
                <a:srgbClr val="ffff00"/>
              </a:solidFill>
              <a:latin typeface="Arial"/>
            </a:endParaRPr>
          </a:p>
        </p:txBody>
      </p:sp>
      <p:sp>
        <p:nvSpPr>
          <p:cNvPr id="248"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ection of pus anywhere in the brain tissu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caused by a local infection or secondary infections elsewhere in the bo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rain Absces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50"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prime sympto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symptoms depend on location and extent of abscess, amount of cranial pressure, and can include:</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usea and vomit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disturbance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equal pupil size (anisocoria)</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izu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rain Absces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252"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avenous antibiot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nitol or steroids to reduce cerebral edem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ical drainage of abscess to relieve pres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685800" y="1614240"/>
            <a:ext cx="7772400" cy="4305240"/>
          </a:xfrm>
          <a:prstGeom prst="rect">
            <a:avLst/>
          </a:prstGeom>
          <a:noFill/>
          <a:ln w="0">
            <a:noFill/>
          </a:ln>
        </p:spPr>
        <p:txBody>
          <a:bodyPr anchor="t">
            <a:normAutofit/>
          </a:bodyPr>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omyelitis is a viral infection of the gray matter of the spinal cord that causes a selective destruction of the motor neurons.</a:t>
            </a:r>
            <a:endParaRPr b="0" lang="en-US" sz="24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polio syndrome is a condition affecting poliomyelitis patients several decades after the initial attack, characterized by fatigue, muscular deterioration, pain in the joints, and respiratory problem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54"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liomyelitis and </a:t>
            </a:r>
            <a:br>
              <a:rPr sz="3200"/>
            </a:br>
            <a:r>
              <a:rPr b="0" lang="en-US" sz="3200" spc="-1" strike="noStrike">
                <a:solidFill>
                  <a:srgbClr val="ffff00"/>
                </a:solidFill>
                <a:latin typeface="Arial"/>
              </a:rPr>
              <a:t>Postpolio Syndrom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grade fever</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use discharge from nose</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aise</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ymptoms are followed by:</a:t>
            </a:r>
            <a:endParaRPr b="0" lang="en-US" sz="2000" spc="-1" strike="noStrike">
              <a:solidFill>
                <a:srgbClr val="ffffff"/>
              </a:solidFill>
              <a:latin typeface="Arial"/>
            </a:endParaRPr>
          </a:p>
          <a:p>
            <a:pPr lvl="2" marL="1143000" indent="-228600">
              <a:spcBef>
                <a:spcPts val="45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cle weakness</a:t>
            </a:r>
            <a:endParaRPr b="0" lang="en-US" sz="1800" spc="-1" strike="noStrike">
              <a:solidFill>
                <a:srgbClr val="ffffff"/>
              </a:solidFill>
              <a:latin typeface="Arial"/>
            </a:endParaRPr>
          </a:p>
          <a:p>
            <a:pPr lvl="2" marL="1143000" indent="-228600">
              <a:spcBef>
                <a:spcPts val="45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ff neck</a:t>
            </a:r>
            <a:endParaRPr b="0" lang="en-US" sz="1800" spc="-1" strike="noStrike">
              <a:solidFill>
                <a:srgbClr val="ffffff"/>
              </a:solidFill>
              <a:latin typeface="Arial"/>
            </a:endParaRPr>
          </a:p>
          <a:p>
            <a:pPr lvl="2" marL="1143000" indent="-228600">
              <a:spcBef>
                <a:spcPts val="45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usea and vomiting</a:t>
            </a:r>
            <a:endParaRPr b="0" lang="en-US" sz="1800" spc="-1" strike="noStrike">
              <a:solidFill>
                <a:srgbClr val="ffffff"/>
              </a:solidFill>
              <a:latin typeface="Arial"/>
            </a:endParaRPr>
          </a:p>
          <a:p>
            <a:pPr lvl="2" marL="1143000" indent="-228600">
              <a:spcBef>
                <a:spcPts val="45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rophy of muscles</a:t>
            </a:r>
            <a:endParaRPr b="0" lang="en-US" sz="1800" spc="-1" strike="noStrike">
              <a:solidFill>
                <a:srgbClr val="ffffff"/>
              </a:solidFill>
              <a:latin typeface="Arial"/>
            </a:endParaRPr>
          </a:p>
          <a:p>
            <a:pPr lvl="2" marL="1143000" indent="-228600">
              <a:spcBef>
                <a:spcPts val="45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cle and joint deterioration</a:t>
            </a:r>
            <a:endParaRPr b="0" lang="en-US" sz="1800" spc="-1" strike="noStrike">
              <a:solidFill>
                <a:srgbClr val="ffffff"/>
              </a:solidFill>
              <a:latin typeface="Arial"/>
            </a:endParaRPr>
          </a:p>
        </p:txBody>
      </p:sp>
      <p:sp>
        <p:nvSpPr>
          <p:cNvPr id="256"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liomyelitis and </a:t>
            </a:r>
            <a:br>
              <a:rPr sz="3200"/>
            </a:br>
            <a:r>
              <a:rPr b="0" lang="en-US" sz="3200" spc="-1" strike="noStrike">
                <a:solidFill>
                  <a:srgbClr val="ffff00"/>
                </a:solidFill>
                <a:latin typeface="Arial"/>
              </a:rPr>
              <a:t>Postpolio Syndrom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heat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d rest</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therapy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 brac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ventilation</a:t>
            </a:r>
            <a:endParaRPr b="0" lang="en-US" sz="2400" spc="-1" strike="noStrike">
              <a:solidFill>
                <a:srgbClr val="ffffff"/>
              </a:solidFill>
              <a:latin typeface="Arial"/>
            </a:endParaRPr>
          </a:p>
        </p:txBody>
      </p:sp>
      <p:sp>
        <p:nvSpPr>
          <p:cNvPr id="258"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liomyelitis and </a:t>
            </a:r>
            <a:br>
              <a:rPr sz="3200"/>
            </a:br>
            <a:r>
              <a:rPr b="0" lang="en-US" sz="3200" spc="-1" strike="noStrike">
                <a:solidFill>
                  <a:srgbClr val="ffff00"/>
                </a:solidFill>
                <a:latin typeface="Arial"/>
              </a:rPr>
              <a:t>Postpolio Syndrom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umors can be primary (originate in the brain itself) or secondary (cancer that has metastasized from another area of the body).</a:t>
            </a:r>
            <a:endParaRPr b="0" lang="en-US" sz="2800" spc="-1" strike="noStrike">
              <a:solidFill>
                <a:srgbClr val="ffffff"/>
              </a:solidFill>
              <a:latin typeface="Arial"/>
            </a:endParaRPr>
          </a:p>
        </p:txBody>
      </p:sp>
      <p:sp>
        <p:nvSpPr>
          <p:cNvPr id="26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acranial Tumors </a:t>
            </a:r>
            <a:br>
              <a:rPr sz="3200"/>
            </a:br>
            <a:r>
              <a:rPr b="0" lang="en-US" sz="3200" spc="-1" strike="noStrike">
                <a:solidFill>
                  <a:srgbClr val="ffff00"/>
                </a:solidFill>
                <a:latin typeface="Arial"/>
              </a:rPr>
              <a:t>(Brain Tumor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result from a displacement and compression of normal brain tissue by the tumor and include:</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dache (usually dull, constant, and worse at night or in the morning)</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izures</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usea and vomiting</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consciousness</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gnitive dysfunction (memory problems and personality changes)</a:t>
            </a:r>
            <a:endParaRPr b="0" lang="en-US" sz="2000" spc="-1" strike="noStrike">
              <a:solidFill>
                <a:srgbClr val="ffffff"/>
              </a:solidFill>
              <a:latin typeface="Arial"/>
            </a:endParaRPr>
          </a:p>
        </p:txBody>
      </p:sp>
      <p:sp>
        <p:nvSpPr>
          <p:cNvPr id="26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acranial Tumors </a:t>
            </a:r>
            <a:br>
              <a:rPr sz="3200"/>
            </a:br>
            <a:r>
              <a:rPr b="0" lang="en-US" sz="3200" spc="-1" strike="noStrike">
                <a:solidFill>
                  <a:srgbClr val="ffff00"/>
                </a:solidFill>
                <a:latin typeface="Arial"/>
              </a:rPr>
              <a:t>(Brain Tumor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ent Ischemic Attack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irin (as soon as symptoms app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agulant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ery (if needed to increase blood flow to the affected area)</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histor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logic examina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tic imaging studie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nial MRI (preferred option)</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al MRI</a:t>
            </a:r>
            <a:endParaRPr b="0" lang="en-US" sz="20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ssue sample (from surgery or biopsy)</a:t>
            </a:r>
            <a:endParaRPr b="0" lang="en-US" sz="2400" spc="-1" strike="noStrike">
              <a:solidFill>
                <a:srgbClr val="ffffff"/>
              </a:solidFill>
              <a:latin typeface="Arial"/>
            </a:endParaRPr>
          </a:p>
        </p:txBody>
      </p:sp>
      <p:sp>
        <p:nvSpPr>
          <p:cNvPr id="264"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acranial Tumors </a:t>
            </a:r>
            <a:br>
              <a:rPr sz="3200"/>
            </a:br>
            <a:r>
              <a:rPr b="0" lang="en-US" sz="3200" spc="-1" strike="noStrike">
                <a:solidFill>
                  <a:srgbClr val="ffff00"/>
                </a:solidFill>
                <a:latin typeface="Arial"/>
              </a:rPr>
              <a:t>(Brain Tumor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 primary tumo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ign and malignant tumors often treated similarl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er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otherap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nvulsants to treat seizur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ticosteroids to help decrease intracranial press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agulants to prevent blood clotting</a:t>
            </a:r>
            <a:endParaRPr b="0" lang="en-US" sz="2400" spc="-1" strike="noStrike">
              <a:solidFill>
                <a:srgbClr val="ffffff"/>
              </a:solidFill>
              <a:latin typeface="Arial"/>
            </a:endParaRPr>
          </a:p>
        </p:txBody>
      </p:sp>
      <p:sp>
        <p:nvSpPr>
          <p:cNvPr id="266"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acranial Tumors </a:t>
            </a:r>
            <a:br>
              <a:rPr sz="3200"/>
            </a:br>
            <a:r>
              <a:rPr b="0" lang="en-US" sz="3200" spc="-1" strike="noStrike">
                <a:solidFill>
                  <a:srgbClr val="ffff00"/>
                </a:solidFill>
                <a:latin typeface="Arial"/>
              </a:rPr>
              <a:t>(Brain Tumor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 secondary tumor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s on relief of neurological symptoms and long-term tumor contro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ith solitary brain lesions and no other sites of metastasis undergo:</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gery</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le brain radiation therapy</a:t>
            </a:r>
            <a:endParaRPr b="0" lang="en-US" sz="2000" spc="-1" strike="noStrike">
              <a:solidFill>
                <a:srgbClr val="ffffff"/>
              </a:solidFill>
              <a:latin typeface="Arial"/>
            </a:endParaRPr>
          </a:p>
        </p:txBody>
      </p:sp>
      <p:sp>
        <p:nvSpPr>
          <p:cNvPr id="268"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acranial Tumors </a:t>
            </a:r>
            <a:br>
              <a:rPr sz="3200"/>
            </a:br>
            <a:r>
              <a:rPr b="0" lang="en-US" sz="3200" spc="-1" strike="noStrike">
                <a:solidFill>
                  <a:srgbClr val="ffff00"/>
                </a:solidFill>
                <a:latin typeface="Arial"/>
              </a:rPr>
              <a:t>(Brain Tumor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nos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ve-year survival rate for all types of brain tumors combined is 32%, which is among the lowest for all types of cancer.</a:t>
            </a:r>
            <a:endParaRPr b="0" lang="en-US" sz="2400" spc="-1" strike="noStrike">
              <a:solidFill>
                <a:srgbClr val="ffffff"/>
              </a:solidFill>
              <a:latin typeface="Arial"/>
            </a:endParaRPr>
          </a:p>
        </p:txBody>
      </p:sp>
      <p:sp>
        <p:nvSpPr>
          <p:cNvPr id="27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acranial Tumors </a:t>
            </a:r>
            <a:br>
              <a:rPr sz="3200"/>
            </a:br>
            <a:r>
              <a:rPr b="0" lang="en-US" sz="3200" spc="-1" strike="noStrike">
                <a:solidFill>
                  <a:srgbClr val="ffff00"/>
                </a:solidFill>
                <a:latin typeface="Arial"/>
              </a:rPr>
              <a:t>(Brain Tumor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8T16:24:13Z</dcterms:created>
  <dc:creator>Gary Gilles</dc:creator>
  <dc:description/>
  <dc:language>en-US</dc:language>
  <cp:lastModifiedBy>Student</cp:lastModifiedBy>
  <cp:lastPrinted>2005-01-20T14:01:04Z</cp:lastPrinted>
  <dcterms:modified xsi:type="dcterms:W3CDTF">2011-06-16T21:58:56Z</dcterms:modified>
  <cp:revision>131</cp:revision>
  <dc:subject/>
  <dc:title>Slide 1</dc:title>
</cp:coreProperties>
</file>